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1CEB-1A2F-49F7-A9D2-6DE6F7BE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ED3D-15DB-4898-B611-7F73DA99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858E-B74E-4238-980F-9F777949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BAF-E86F-4124-8B19-E12444F0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399-ED84-46FF-8FBF-555A54A4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4E3-775C-4094-BE96-04E831E1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DEC2-9F1E-4587-BBB2-D9AC70A5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EA6-0CFF-42BA-834C-F9A92613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180-83A1-4CCB-AD9B-71FA33F6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FDF-9B1C-4AD4-A552-7DFCF761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0987-A1B7-4C1B-B0E2-54D24CF6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E595-9A72-4E96-8385-473E902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CDB9-447F-41A8-BD0D-96772AC82CFA}" type="slidenum">
              <a:rPr b="0" lang="ar-E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Thyroid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a6a6a6"/>
                </a:solidFill>
                <a:latin typeface="Cambria"/>
              </a:rPr>
              <a:t>ENDO412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1600200"/>
            <a:ext cx="84960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mbria"/>
              </a:rPr>
              <a:t>Thyroid Binding Globulin (TB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produced by the </a:t>
            </a:r>
            <a:r>
              <a:rPr b="0" lang="en-US" sz="1900" spc="-1" strike="noStrike" u="sng">
                <a:solidFill>
                  <a:srgbClr val="002060"/>
                </a:solidFill>
                <a:uFillTx/>
                <a:latin typeface="Cambria"/>
              </a:rPr>
              <a:t>li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 Synthesis of TBG is </a:t>
            </a:r>
            <a:r>
              <a:rPr b="0" lang="en-US" sz="1900" spc="-1" strike="noStrike" u="sng">
                <a:solidFill>
                  <a:srgbClr val="002060"/>
                </a:solidFill>
                <a:uFillTx/>
                <a:latin typeface="Cambria"/>
              </a:rPr>
              <a:t>increased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by estrogens (in cases of pregnancy  &amp; intak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of contraceptive pills) &amp; is </a:t>
            </a:r>
            <a:r>
              <a:rPr b="0" lang="en-US" sz="1900" spc="-1" strike="noStrike" u="sng">
                <a:solidFill>
                  <a:srgbClr val="002060"/>
                </a:solidFill>
                <a:uFillTx/>
                <a:latin typeface="Cambria"/>
              </a:rPr>
              <a:t>decreased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by androgens,  glucocorticoids &amp; liv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iseas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n these cases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, total T4 &amp; total 3 are changed without  changes in the free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forms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Some medications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as salicylates compete with T3 &amp; T4 for binding sites on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TBG causing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ecrease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in total T3 &amp; total T4 without decreasing free T3 or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free T4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Transport of thyroid hormones in blood 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Mechanism of action of thyroid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hormones belong to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mbria"/>
              </a:rPr>
              <a:t>group I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hormones that are bound to intracellular receptors (mainly nuclear recepto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Hormone-Receptor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complex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binds to hormone sensitive element (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HRE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) of certain genes (T3 responsive genes) affecting their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ranscription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Products (proteins as enzymes) exert a number of effects on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growth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development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&amp;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cell metabolism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General actions of thyroid 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120" y="1600200"/>
            <a:ext cx="8429760" cy="504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Major effect of T3 &amp; T4 is to enhance general protein synthesis essential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for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growth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for example: T3 enhances transcription of growth hormone (GH) itself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(anabolic effects of T3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However, very high T3 levels in blood causes inhibition of protein synthesi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2- Thyroid hormones are essential for normal physical, mental &amp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reproductive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development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in human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ntrauterine or neonatal hypothyroidism causes </a:t>
            </a:r>
            <a:r>
              <a:rPr b="0" i="1" lang="en-US" sz="1900" spc="-1" strike="noStrike">
                <a:solidFill>
                  <a:srgbClr val="002060"/>
                </a:solidFill>
                <a:latin typeface="Cambria"/>
              </a:rPr>
              <a:t>cretinism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in which there is physical &amp;  mental retard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3- Thyroid hormones have 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metabolic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actions  that regulates metabolism of carbohydrates, lipids &amp; proteins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basal Metabolic rate  (BMR) is increase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Regulation of thyroid fun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stimulating hormone (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mbria"/>
              </a:rPr>
              <a:t>TSH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) or thyrotropin of the anterior pituitary gland enhances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synthesis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&amp;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secretion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of thyroid hormones by the thyroid g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Production of TSH by the pituitary is controlled by a stimulatory effect of thyrotropin-releasing hormone (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mbria"/>
              </a:rPr>
              <a:t>TRH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) of the hypothalamus by negative feedback from circulating free T3 &amp; free T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Accordingly, the hypothalamus (via TRH), sets the level of thyroid hormones production required physiologically by the body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28760" y="35712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500200" y="571680"/>
            <a:ext cx="384336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ypothal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643200" y="1500120"/>
            <a:ext cx="17859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nt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ar-EG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ituit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6"/>
          <p:cNvCxnSpPr/>
          <p:nvPr/>
        </p:nvCxnSpPr>
        <p:spPr>
          <a:xfrm flipH="1">
            <a:off x="4500360" y="2500200"/>
            <a:ext cx="2160" cy="57240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8" name="Pie 10"/>
          <p:cNvSpPr/>
          <p:nvPr/>
        </p:nvSpPr>
        <p:spPr>
          <a:xfrm rot="19212600">
            <a:off x="4044600" y="30445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914400" y="457200"/>
                </a:moveTo>
                <a:cubicBezTo>
                  <a:pt x="914400" y="709705"/>
                  <a:pt x="709705" y="914400"/>
                  <a:pt x="457200" y="914400"/>
                </a:cubicBezTo>
                <a:cubicBezTo>
                  <a:pt x="204695" y="914400"/>
                  <a:pt x="0" y="709705"/>
                  <a:pt x="0" y="457200"/>
                </a:cubicBezTo>
                <a:cubicBezTo>
                  <a:pt x="0" y="204695"/>
                  <a:pt x="204695" y="0"/>
                  <a:pt x="457200" y="0"/>
                </a:cubicBezTo>
                <a:lnTo>
                  <a:pt x="457200" y="457200"/>
                </a:lnTo>
                <a:lnTo>
                  <a:pt x="914400" y="457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Straight Arrow Connector 12"/>
          <p:cNvCxnSpPr/>
          <p:nvPr/>
        </p:nvCxnSpPr>
        <p:spPr>
          <a:xfrm flipH="1">
            <a:off x="4500360" y="4142880"/>
            <a:ext cx="2160" cy="78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0" name="Rounded Rectangle 16"/>
          <p:cNvSpPr/>
          <p:nvPr/>
        </p:nvSpPr>
        <p:spPr>
          <a:xfrm>
            <a:off x="3643200" y="5143680"/>
            <a:ext cx="192888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sma T3 &amp;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4067640" y="3429000"/>
            <a:ext cx="79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Thyroid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>
            <a:off x="5643720" y="5357880"/>
            <a:ext cx="1357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4"/>
          <p:cNvCxnSpPr/>
          <p:nvPr/>
        </p:nvCxnSpPr>
        <p:spPr>
          <a:xfrm flipH="1">
            <a:off x="4500360" y="5715000"/>
            <a:ext cx="21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26"/>
          <p:cNvSpPr/>
          <p:nvPr/>
        </p:nvSpPr>
        <p:spPr>
          <a:xfrm>
            <a:off x="3645720" y="6143760"/>
            <a:ext cx="186336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eripheral t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29"/>
          <p:cNvSpPr/>
          <p:nvPr/>
        </p:nvSpPr>
        <p:spPr>
          <a:xfrm flipH="1" flipV="1">
            <a:off x="6928920" y="713880"/>
            <a:ext cx="71640" cy="4645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34"/>
          <p:cNvCxnSpPr/>
          <p:nvPr/>
        </p:nvCxnSpPr>
        <p:spPr>
          <a:xfrm flipH="1" flipV="1">
            <a:off x="6357960" y="713520"/>
            <a:ext cx="643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TextBox 37"/>
          <p:cNvSpPr/>
          <p:nvPr/>
        </p:nvSpPr>
        <p:spPr>
          <a:xfrm>
            <a:off x="7212600" y="2786040"/>
            <a:ext cx="109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Negative</a:t>
            </a: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8"/>
          <p:cNvSpPr/>
          <p:nvPr/>
        </p:nvSpPr>
        <p:spPr>
          <a:xfrm>
            <a:off x="291240" y="2928960"/>
            <a:ext cx="341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egulation of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yroid hormones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ynthesis &amp; secretion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Straight Arrow Connector 28"/>
          <p:cNvCxnSpPr/>
          <p:nvPr/>
        </p:nvCxnSpPr>
        <p:spPr>
          <a:xfrm flipH="1">
            <a:off x="4427280" y="999720"/>
            <a:ext cx="2160" cy="429480"/>
          </a:xfrm>
          <a:prstGeom prst="straightConnector1">
            <a:avLst/>
          </a:prstGeom>
          <a:ln w="572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0" name="TextBox 30"/>
          <p:cNvSpPr/>
          <p:nvPr/>
        </p:nvSpPr>
        <p:spPr>
          <a:xfrm>
            <a:off x="3647880" y="1071720"/>
            <a:ext cx="5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1"/>
          <p:cNvSpPr/>
          <p:nvPr/>
        </p:nvSpPr>
        <p:spPr>
          <a:xfrm>
            <a:off x="3789720" y="264312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Over secretion of thyroid hormones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(Hyperthyroidism)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Primary Hyperthyroidism (thyrotoxicos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hormones elevation in blood due to  causes in the </a:t>
            </a:r>
            <a:r>
              <a:rPr b="0" i="1" lang="en-US" sz="2000" spc="-1" strike="noStrike">
                <a:solidFill>
                  <a:srgbClr val="002060"/>
                </a:solidFill>
                <a:latin typeface="Cambria"/>
              </a:rPr>
              <a:t>thyroid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gland itsel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   </a:t>
            </a:r>
            <a:r>
              <a:rPr b="0" i="1" lang="en-US" sz="2000" spc="-1" strike="noStrike">
                <a:solidFill>
                  <a:srgbClr val="002060"/>
                </a:solidFill>
                <a:latin typeface="Cambria"/>
              </a:rPr>
              <a:t>Most important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: Graves` dise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Secondary hyperthyroid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hyroid hormones elevation due to TSH- secreting tumor of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    </a:t>
            </a:r>
            <a:r>
              <a:rPr b="0" i="1" lang="en-US" sz="2000" spc="-1" strike="noStrike">
                <a:solidFill>
                  <a:srgbClr val="002060"/>
                </a:solidFill>
                <a:latin typeface="Cambria"/>
              </a:rPr>
              <a:t>pituitary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Graves`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Etiology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A primary hyperthyroid disease which results from production of a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thyroid-stimulating immunoglobulin IgG that activates TSH receptors  on thyroid gland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resulting in over production &amp; secretion of thyroid hormones (T3 &amp; T4)  by thyroid glan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Clinically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Thyroid gland is diffusely enlarg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Thyrotoxic manifestation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Increased heart rate &amp; hyperte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Nervousness &amp; inability to sleep (insomnia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Sensitivity to heat (increased BMR), flushed skin &amp;  excessive swea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weight loss with increased appetit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Exophalmos  of the eye in some ca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Diagnostic Laboratory  Investiga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Plasma 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Free T3 &amp; free T4 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are elevat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Serum 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 is markedly reduce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Cambria"/>
              </a:rPr>
              <a:t>Treatment</a:t>
            </a:r>
            <a:r>
              <a:rPr b="1" lang="en-US" sz="11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1-  blocking hormone production by antithyroid drug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Cambria"/>
              </a:rPr>
              <a:t>2- Surgical removal of the thyroid gland (subtotal thyroidectomy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mbria"/>
              </a:rPr>
              <a:t>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5" descr="3"/>
          <p:cNvPicPr/>
          <p:nvPr/>
        </p:nvPicPr>
        <p:blipFill>
          <a:blip r:embed="rId1"/>
          <a:srcRect l="20781" t="25773" r="15745" b="37176"/>
          <a:stretch/>
        </p:blipFill>
        <p:spPr>
          <a:xfrm>
            <a:off x="838080" y="228600"/>
            <a:ext cx="76964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Under secretion of thyroid hormone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(Hypothyroid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Defined as low free T4 level with a normal or high TSH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Types of hypothyroidism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Primary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: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gland dysfunc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Most common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1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Congenital hypothyroidism (in neonate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Chronic lymphocytic thyroiditis (Hashimoto`s thyroiditi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Autoimmune disease of thyroid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gland is enlarge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3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Iodine deficienc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4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Thyroid surger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             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5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i="1" lang="en-US" sz="1500" spc="-1" strike="noStrike">
                <a:solidFill>
                  <a:srgbClr val="002060"/>
                </a:solidFill>
                <a:latin typeface="Cambria"/>
              </a:rPr>
              <a:t>Radioactive iodine treatm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2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Secondary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: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Pituitary dysfunction (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hypopitutarism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due to radiation therapy or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                            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destruction of the pituitary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428480"/>
            <a:ext cx="830124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Important clinical manifestations of hypothyroidism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mbria"/>
              </a:rPr>
              <a:t>Symptoms</a:t>
            </a:r>
            <a:r>
              <a:rPr b="1" i="1" lang="en-US" sz="12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Cold in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epr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Mental retardation (infa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Growth failure (childr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ry sk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Consti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yspnoea on exer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mbria"/>
              </a:rPr>
              <a:t>Signs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Bradycard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Periorbital ede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Slowed movement &amp; spee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Delayed relaxation phase of deep tendon reflex tend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Lab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: Hypercholesterolem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Cambria"/>
              </a:rPr>
              <a:t>Laboratory Investigation</a:t>
            </a:r>
            <a:r>
              <a:rPr b="1" i="1" lang="en-US" sz="12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1- Low plasma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free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2- Plasma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s normal or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Cambria"/>
              </a:rPr>
              <a:t>high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n primary hypothyroidism &amp; </a:t>
            </a:r>
            <a:r>
              <a:rPr b="0" lang="en-US" sz="1200" spc="-1" strike="noStrike" u="sng">
                <a:solidFill>
                  <a:srgbClr val="002060"/>
                </a:solidFill>
                <a:uFillTx/>
                <a:latin typeface="Cambria"/>
              </a:rPr>
              <a:t>low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n secondary hypothyroid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1" i="1" lang="en-US" sz="1200" spc="-1" strike="noStrike">
                <a:solidFill>
                  <a:srgbClr val="002060"/>
                </a:solidFill>
                <a:latin typeface="Cambria"/>
              </a:rPr>
              <a:t>Neonatal screening 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for congenital hypothyroidism (plasma </a:t>
            </a:r>
            <a:r>
              <a:rPr b="1" lang="en-US" sz="12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200" spc="-1" strike="noStrike">
                <a:solidFill>
                  <a:srgbClr val="002060"/>
                </a:solidFill>
                <a:latin typeface="Cambria"/>
              </a:rPr>
              <a:t> is elevated in  affected neonat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28684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Under secretion of thyroid hormones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(Hypothyroidism) 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cont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4960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Objectives of the Le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1600200"/>
            <a:ext cx="84960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dentification of the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regulatory mechanism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controlling thyroid hormone secre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dentification of the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biosynthesis, storage &amp; secretion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of thyroid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Explaining the significance of the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conversion of T4 to T3 &amp; reverse T3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n extra thyroid tissu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Describing in brief the different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actions of  the thyroid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Identifying causes &amp; consequences of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over secretion &amp; under secretion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of the thyroid horm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Listing &amp; applications of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thyroid function tests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6" descr="2"/>
          <p:cNvPicPr/>
          <p:nvPr/>
        </p:nvPicPr>
        <p:blipFill>
          <a:blip r:embed="rId1"/>
          <a:srcRect l="13206" t="26088" r="17358" b="36997"/>
          <a:stretch/>
        </p:blipFill>
        <p:spPr>
          <a:xfrm>
            <a:off x="533520" y="304920"/>
            <a:ext cx="830556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hyroid Function Te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mbria"/>
              </a:rPr>
              <a:t>      </a:t>
            </a:r>
            <a:r>
              <a:rPr b="1" lang="en-US" sz="2100" spc="-1" strike="noStrike" u="sng">
                <a:solidFill>
                  <a:srgbClr val="ff0000"/>
                </a:solidFill>
                <a:uFillTx/>
                <a:latin typeface="Cambria"/>
              </a:rPr>
              <a:t>Investigations to determine thyroid statu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lang="en-US" sz="1900" spc="-1" strike="noStrike">
                <a:solidFill>
                  <a:srgbClr val="ff0000"/>
                </a:solidFill>
                <a:latin typeface="Cambria"/>
              </a:rPr>
              <a:t>Tests to establish whether there is thyroid dysfunc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hormone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(free &amp; total ) concentrations in plasma  (T3 &amp; T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S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lang="en-US" sz="1900" spc="-1" strike="noStrike">
                <a:solidFill>
                  <a:srgbClr val="ff0000"/>
                </a:solidFill>
                <a:latin typeface="Cambria"/>
              </a:rPr>
              <a:t>Tests to elucidate the cause of the thyroid dysfunction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as for example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autoanibod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Serum thyroglobul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Thyroid enzyme activit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Biopsy of the thyro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Ultrasonography (sonar) of the thyroi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500" spc="-1" strike="noStrike">
                <a:solidFill>
                  <a:srgbClr val="002060"/>
                </a:solidFill>
                <a:latin typeface="Cambria"/>
              </a:rPr>
              <a:t>Isotope scanning of the thyroid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Thyroid hormones  concentrations in plasma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Free thyroid hormones (free T3 &amp;  free T4)</a:t>
            </a: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concentrations  in plasma are independent of changes in the concentration of thyroid binding  proteins as TBG, prealbumin &amp; albumin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So, they provide more reliable means of diagnosing thyroid dysfunction than measurement of total thyroid hormone concentr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    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Total  thyroid hormones  (total T3 &amp;  total T4</a:t>
            </a: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)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concentrations in plasma  are greatly influenced by TBG which is increased in cases of oral contraceptives intake &amp; in pregnancy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n these cases, total T3 &amp; T4 are increased while free t3 &amp; T4 remain normal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28760" y="1643040"/>
            <a:ext cx="8229600" cy="4786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Plasma TSH (Thyrotropin)</a:t>
            </a: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TSH concentration in plasma is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elevated</a:t>
            </a: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 in cases of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rimary hypothyroidism 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under secretion of the thyroid hormones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causes in the thyr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econdary hyperthyroidism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over secretion of the thyroid hormones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hperfunction of the anterior pituitary that secretes T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TSH concentration in plasma is </a:t>
            </a:r>
            <a:r>
              <a:rPr b="1" i="1" lang="en-US" sz="1900" spc="-1" strike="noStrike" u="sng">
                <a:solidFill>
                  <a:srgbClr val="ff0000"/>
                </a:solidFill>
                <a:uFillTx/>
                <a:latin typeface="Cambria"/>
              </a:rPr>
              <a:t>reduced</a:t>
            </a: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 in cases of 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rimary hyperthyroidism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over secretion of the thyroid hormones 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causes in the thyroid itsel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econdary hypothyroidism :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under secretion of the thyroid hormones du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hypofunction of the anterior pitu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ambria"/>
              </a:rPr>
              <a:t>Measurement of TSH concentration in plasma is helpful i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Cambria"/>
              </a:rPr>
              <a:t>cases of</a:t>
            </a:r>
            <a:r>
              <a:rPr b="1" i="1" lang="en-US" sz="22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Normal thyroid hormones  in blood with clinical manifestation of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hyperthyroidism</a:t>
            </a: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In these cases patient is 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clinically hyperthyroid (enlarged gland, thyrotoxic manifestations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BUT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his 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thyroid hormones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in blood are normal (or upper normal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is reduced (to below 0.1mU/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ff0000"/>
                </a:solidFill>
                <a:latin typeface="Cambria"/>
              </a:rPr>
              <a:t>Subclinical hyperthyroidism</a:t>
            </a:r>
            <a:r>
              <a:rPr b="1" i="1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In these cases, patient are </a:t>
            </a: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clinically normal  for thyroid illness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(or have mild hyperthyroid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&amp; Thyroid hormones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are norm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Cambria"/>
              </a:rPr>
              <a:t>BUT: </a:t>
            </a:r>
            <a:r>
              <a:rPr b="1" i="1" lang="en-US" sz="1600" spc="-1" strike="noStrike">
                <a:solidFill>
                  <a:srgbClr val="002060"/>
                </a:solidFill>
                <a:latin typeface="Cambria"/>
              </a:rPr>
              <a:t>TSH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is reduc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TSH may be misleading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1-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First trimester of pregnanc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SH may be very low (less than 0.1 mU/L) in 3% of cases due to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weak  thyrotrophic effect of human chorionic gonadotrophins(hCG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which is high in this peri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2-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50% of patients with pituitary hypothyroidism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how normal TSH BUT: circulating TSH may show reduced bio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3-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First 4-6 months of treatment of hyperthyroidism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SH may be still low even T3 &amp; T4 are normal (or even below normal 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o, follow up of patients during this period by TSH is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Cambria"/>
              </a:rPr>
              <a:t>not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reli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Nonthyroidal illness (NTI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atients with a wide range of chronic &amp; acute non-thyroidal illness (NTIs) ma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show 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abnormal thyroid function tests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(particularly  low T3) &amp; even thoug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patients are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euthyroid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(not show  clinical  manifestations of hyper- or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hpothyroidism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his is called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sick euthyroid syndrome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It may result from the effects of the chronic disease on the circulat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thyroid hormones (as change in thyroid hormones binding proteins  etc..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Accordingly, thyroid function tests should be </a:t>
            </a:r>
            <a:r>
              <a:rPr b="0" i="1" lang="en-US" sz="1800" spc="-1" strike="noStrike">
                <a:solidFill>
                  <a:srgbClr val="002060"/>
                </a:solidFill>
                <a:latin typeface="Cambria"/>
              </a:rPr>
              <a:t>only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requested if the reas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1800" spc="-1" strike="noStrike">
                <a:solidFill>
                  <a:srgbClr val="002060"/>
                </a:solidFill>
                <a:latin typeface="Cambria"/>
              </a:rPr>
              <a:t>of hospital admission is related to a thyroid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Tests to determine thyroid status </a:t>
            </a:r>
            <a:r>
              <a:rPr b="0" i="1" lang="en-US" sz="22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Thyroid 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600200"/>
            <a:ext cx="609588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Thyroid hormones that are synthesized &amp; secreted by the thyroid glands are essential for normal growth, development &amp; metabolism of human bod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Hormone production by the thyroid gland is tightly regulated through hypothalamic-pituitary-thyroid axi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98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Biosynthesis &amp; Secretion of thyroid hormones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All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4 &amp;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small amount of 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T3</a:t>
            </a: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are synthesized in the thyroid gl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Process of biosynthesis of thyroid hormones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1- Trapping of iodide from plasma by thyroid glan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2- Oxidation of iodide to iodine by thyroid peroxida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3- Incorporation of iodine into tyrosine amino acids residues on thyroglobulin of the colloid o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thyroid follicles to form monoiodotyrosine  (MIT) &amp; diiodotyrosine  (DIT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4- Coupling of  DIT &amp; DIT to form tetraiodothyronine (Thyroxine or 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</a:rPr>
              <a:t>T4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  &amp; Coupling of DIT &amp; MIT to form triiodothyronine (</a:t>
            </a:r>
            <a:r>
              <a:rPr b="1" lang="en-US" sz="1600" spc="-1" strike="noStrike">
                <a:solidFill>
                  <a:srgbClr val="002060"/>
                </a:solidFill>
                <a:latin typeface="Cambria"/>
              </a:rPr>
              <a:t>T3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5- T4 &amp; T3 are splitted from the thyroglobulin &amp; reabsorbed into cells to be released in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      </a:t>
            </a:r>
            <a:r>
              <a:rPr b="0" lang="en-US" sz="1600" spc="-1" strike="noStrike">
                <a:solidFill>
                  <a:srgbClr val="002060"/>
                </a:solidFill>
                <a:latin typeface="Cambria"/>
              </a:rPr>
              <a:t>plas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traight Connector 4"/>
          <p:cNvSpPr/>
          <p:nvPr/>
        </p:nvSpPr>
        <p:spPr>
          <a:xfrm>
            <a:off x="1071720" y="5000760"/>
            <a:ext cx="728640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1071720" y="1857240"/>
            <a:ext cx="7429320" cy="733680"/>
          </a:xfrm>
          <a:custGeom>
            <a:avLst/>
            <a:gdLst/>
            <a:ahLst/>
            <a:rect l="l" t="t" r="r" b="b"/>
            <a:pathLst>
              <a:path w="7560859" h="733944">
                <a:moveTo>
                  <a:pt x="0" y="600501"/>
                </a:moveTo>
                <a:cubicBezTo>
                  <a:pt x="10441" y="558737"/>
                  <a:pt x="9525" y="536385"/>
                  <a:pt x="40943" y="504967"/>
                </a:cubicBezTo>
                <a:cubicBezTo>
                  <a:pt x="52541" y="493369"/>
                  <a:pt x="68238" y="486770"/>
                  <a:pt x="81886" y="477672"/>
                </a:cubicBezTo>
                <a:cubicBezTo>
                  <a:pt x="164372" y="312703"/>
                  <a:pt x="59315" y="517171"/>
                  <a:pt x="136477" y="382137"/>
                </a:cubicBezTo>
                <a:cubicBezTo>
                  <a:pt x="146571" y="364473"/>
                  <a:pt x="153679" y="345210"/>
                  <a:pt x="163773" y="327546"/>
                </a:cubicBezTo>
                <a:cubicBezTo>
                  <a:pt x="171911" y="313305"/>
                  <a:pt x="183733" y="301274"/>
                  <a:pt x="191068" y="286603"/>
                </a:cubicBezTo>
                <a:cubicBezTo>
                  <a:pt x="212811" y="243117"/>
                  <a:pt x="201934" y="192459"/>
                  <a:pt x="259307" y="163773"/>
                </a:cubicBezTo>
                <a:lnTo>
                  <a:pt x="313898" y="136478"/>
                </a:lnTo>
                <a:cubicBezTo>
                  <a:pt x="354841" y="145576"/>
                  <a:pt x="396641" y="151438"/>
                  <a:pt x="436728" y="163773"/>
                </a:cubicBezTo>
                <a:cubicBezTo>
                  <a:pt x="456173" y="169756"/>
                  <a:pt x="473534" y="181189"/>
                  <a:pt x="491319" y="191069"/>
                </a:cubicBezTo>
                <a:cubicBezTo>
                  <a:pt x="645528" y="276741"/>
                  <a:pt x="483276" y="193872"/>
                  <a:pt x="614149" y="259307"/>
                </a:cubicBezTo>
                <a:cubicBezTo>
                  <a:pt x="641444" y="286603"/>
                  <a:pt x="683828" y="304573"/>
                  <a:pt x="696035" y="341194"/>
                </a:cubicBezTo>
                <a:cubicBezTo>
                  <a:pt x="715787" y="400447"/>
                  <a:pt x="699511" y="371964"/>
                  <a:pt x="750626" y="423081"/>
                </a:cubicBezTo>
                <a:cubicBezTo>
                  <a:pt x="779032" y="536701"/>
                  <a:pt x="744443" y="424361"/>
                  <a:pt x="791570" y="518615"/>
                </a:cubicBezTo>
                <a:cubicBezTo>
                  <a:pt x="821274" y="578023"/>
                  <a:pt x="785173" y="547873"/>
                  <a:pt x="832513" y="614149"/>
                </a:cubicBezTo>
                <a:cubicBezTo>
                  <a:pt x="843731" y="629855"/>
                  <a:pt x="858221" y="643243"/>
                  <a:pt x="873456" y="655093"/>
                </a:cubicBezTo>
                <a:cubicBezTo>
                  <a:pt x="943848" y="709843"/>
                  <a:pt x="934511" y="702740"/>
                  <a:pt x="996286" y="723331"/>
                </a:cubicBezTo>
                <a:cubicBezTo>
                  <a:pt x="1009928" y="722649"/>
                  <a:pt x="1273794" y="733944"/>
                  <a:pt x="1351128" y="682388"/>
                </a:cubicBezTo>
                <a:cubicBezTo>
                  <a:pt x="1468469" y="604161"/>
                  <a:pt x="1320003" y="697951"/>
                  <a:pt x="1433014" y="641445"/>
                </a:cubicBezTo>
                <a:cubicBezTo>
                  <a:pt x="1447685" y="634109"/>
                  <a:pt x="1458969" y="620811"/>
                  <a:pt x="1473958" y="614149"/>
                </a:cubicBezTo>
                <a:cubicBezTo>
                  <a:pt x="1500250" y="602464"/>
                  <a:pt x="1555844" y="586854"/>
                  <a:pt x="1555844" y="586854"/>
                </a:cubicBezTo>
                <a:cubicBezTo>
                  <a:pt x="1569492" y="577755"/>
                  <a:pt x="1586541" y="572366"/>
                  <a:pt x="1596788" y="559558"/>
                </a:cubicBezTo>
                <a:cubicBezTo>
                  <a:pt x="1605775" y="548325"/>
                  <a:pt x="1608929" y="532922"/>
                  <a:pt x="1610435" y="518615"/>
                </a:cubicBezTo>
                <a:cubicBezTo>
                  <a:pt x="1618070" y="446086"/>
                  <a:pt x="1616448" y="372780"/>
                  <a:pt x="1624083" y="300251"/>
                </a:cubicBezTo>
                <a:cubicBezTo>
                  <a:pt x="1625589" y="285944"/>
                  <a:pt x="1627558" y="269480"/>
                  <a:pt x="1637731" y="259307"/>
                </a:cubicBezTo>
                <a:cubicBezTo>
                  <a:pt x="1676836" y="220201"/>
                  <a:pt x="1712505" y="204799"/>
                  <a:pt x="1760561" y="191069"/>
                </a:cubicBezTo>
                <a:cubicBezTo>
                  <a:pt x="1778596" y="185916"/>
                  <a:pt x="1797186" y="182811"/>
                  <a:pt x="1815152" y="177421"/>
                </a:cubicBezTo>
                <a:cubicBezTo>
                  <a:pt x="1842710" y="169153"/>
                  <a:pt x="1897038" y="150125"/>
                  <a:pt x="1897038" y="150125"/>
                </a:cubicBezTo>
                <a:cubicBezTo>
                  <a:pt x="1928883" y="154674"/>
                  <a:pt x="1962705" y="151826"/>
                  <a:pt x="1992573" y="163773"/>
                </a:cubicBezTo>
                <a:cubicBezTo>
                  <a:pt x="2016455" y="173326"/>
                  <a:pt x="2047166" y="225191"/>
                  <a:pt x="2060812" y="245660"/>
                </a:cubicBezTo>
                <a:cubicBezTo>
                  <a:pt x="2092813" y="341669"/>
                  <a:pt x="2051166" y="223156"/>
                  <a:pt x="2101755" y="341194"/>
                </a:cubicBezTo>
                <a:cubicBezTo>
                  <a:pt x="2120848" y="385743"/>
                  <a:pt x="2110368" y="391465"/>
                  <a:pt x="2142698" y="436728"/>
                </a:cubicBezTo>
                <a:cubicBezTo>
                  <a:pt x="2153916" y="452434"/>
                  <a:pt x="2171080" y="463018"/>
                  <a:pt x="2183641" y="477672"/>
                </a:cubicBezTo>
                <a:cubicBezTo>
                  <a:pt x="2198444" y="494942"/>
                  <a:pt x="2209782" y="514993"/>
                  <a:pt x="2224585" y="532263"/>
                </a:cubicBezTo>
                <a:cubicBezTo>
                  <a:pt x="2237146" y="546917"/>
                  <a:pt x="2252967" y="558552"/>
                  <a:pt x="2265528" y="573206"/>
                </a:cubicBezTo>
                <a:cubicBezTo>
                  <a:pt x="2280331" y="590476"/>
                  <a:pt x="2289201" y="612994"/>
                  <a:pt x="2306471" y="627797"/>
                </a:cubicBezTo>
                <a:cubicBezTo>
                  <a:pt x="2336652" y="653667"/>
                  <a:pt x="2368120" y="654218"/>
                  <a:pt x="2402006" y="668740"/>
                </a:cubicBezTo>
                <a:cubicBezTo>
                  <a:pt x="2420706" y="676754"/>
                  <a:pt x="2438400" y="686937"/>
                  <a:pt x="2456597" y="696036"/>
                </a:cubicBezTo>
                <a:cubicBezTo>
                  <a:pt x="2611271" y="691487"/>
                  <a:pt x="2766104" y="690740"/>
                  <a:pt x="2920620" y="682388"/>
                </a:cubicBezTo>
                <a:cubicBezTo>
                  <a:pt x="2934985" y="681611"/>
                  <a:pt x="2949594" y="676720"/>
                  <a:pt x="2961564" y="668740"/>
                </a:cubicBezTo>
                <a:cubicBezTo>
                  <a:pt x="2990078" y="649731"/>
                  <a:pt x="3024530" y="598433"/>
                  <a:pt x="3043450" y="573206"/>
                </a:cubicBezTo>
                <a:cubicBezTo>
                  <a:pt x="3047999" y="541361"/>
                  <a:pt x="3053108" y="509592"/>
                  <a:pt x="3057098" y="477672"/>
                </a:cubicBezTo>
                <a:cubicBezTo>
                  <a:pt x="3066757" y="400403"/>
                  <a:pt x="3062018" y="320247"/>
                  <a:pt x="3084394" y="245660"/>
                </a:cubicBezTo>
                <a:cubicBezTo>
                  <a:pt x="3090930" y="223873"/>
                  <a:pt x="3119236" y="216001"/>
                  <a:pt x="3138985" y="204716"/>
                </a:cubicBezTo>
                <a:cubicBezTo>
                  <a:pt x="3151475" y="197579"/>
                  <a:pt x="3166705" y="196736"/>
                  <a:pt x="3179928" y="191069"/>
                </a:cubicBezTo>
                <a:cubicBezTo>
                  <a:pt x="3297992" y="140470"/>
                  <a:pt x="3179434" y="182135"/>
                  <a:pt x="3275462" y="150125"/>
                </a:cubicBezTo>
                <a:lnTo>
                  <a:pt x="3480179" y="163773"/>
                </a:lnTo>
                <a:cubicBezTo>
                  <a:pt x="3510962" y="175114"/>
                  <a:pt x="3534770" y="245660"/>
                  <a:pt x="3534770" y="245660"/>
                </a:cubicBezTo>
                <a:cubicBezTo>
                  <a:pt x="3539319" y="272955"/>
                  <a:pt x="3539666" y="301294"/>
                  <a:pt x="3548417" y="327546"/>
                </a:cubicBezTo>
                <a:cubicBezTo>
                  <a:pt x="3561955" y="368160"/>
                  <a:pt x="3592901" y="376176"/>
                  <a:pt x="3616656" y="409433"/>
                </a:cubicBezTo>
                <a:cubicBezTo>
                  <a:pt x="3628481" y="425988"/>
                  <a:pt x="3630927" y="448395"/>
                  <a:pt x="3643952" y="464024"/>
                </a:cubicBezTo>
                <a:cubicBezTo>
                  <a:pt x="3654453" y="476625"/>
                  <a:pt x="3672636" y="480422"/>
                  <a:pt x="3684895" y="491319"/>
                </a:cubicBezTo>
                <a:cubicBezTo>
                  <a:pt x="3713746" y="516965"/>
                  <a:pt x="3732255" y="555943"/>
                  <a:pt x="3766782" y="573206"/>
                </a:cubicBezTo>
                <a:cubicBezTo>
                  <a:pt x="3827434" y="603532"/>
                  <a:pt x="3880597" y="633891"/>
                  <a:pt x="3944203" y="655093"/>
                </a:cubicBezTo>
                <a:cubicBezTo>
                  <a:pt x="3961997" y="661024"/>
                  <a:pt x="3980759" y="663587"/>
                  <a:pt x="3998794" y="668740"/>
                </a:cubicBezTo>
                <a:cubicBezTo>
                  <a:pt x="4036230" y="679436"/>
                  <a:pt x="4071931" y="695266"/>
                  <a:pt x="4107976" y="709684"/>
                </a:cubicBezTo>
                <a:cubicBezTo>
                  <a:pt x="4230806" y="700585"/>
                  <a:pt x="4356737" y="711288"/>
                  <a:pt x="4476465" y="682388"/>
                </a:cubicBezTo>
                <a:cubicBezTo>
                  <a:pt x="4500280" y="676640"/>
                  <a:pt x="4500451" y="638423"/>
                  <a:pt x="4503761" y="614149"/>
                </a:cubicBezTo>
                <a:cubicBezTo>
                  <a:pt x="4514229" y="537388"/>
                  <a:pt x="4510975" y="459340"/>
                  <a:pt x="4517409" y="382137"/>
                </a:cubicBezTo>
                <a:cubicBezTo>
                  <a:pt x="4520080" y="350080"/>
                  <a:pt x="4525768" y="318333"/>
                  <a:pt x="4531056" y="286603"/>
                </a:cubicBezTo>
                <a:cubicBezTo>
                  <a:pt x="4539257" y="237395"/>
                  <a:pt x="4542607" y="204924"/>
                  <a:pt x="4572000" y="163773"/>
                </a:cubicBezTo>
                <a:cubicBezTo>
                  <a:pt x="4588690" y="140407"/>
                  <a:pt x="4645040" y="94741"/>
                  <a:pt x="4667534" y="81887"/>
                </a:cubicBezTo>
                <a:cubicBezTo>
                  <a:pt x="4680024" y="74750"/>
                  <a:pt x="4694698" y="72373"/>
                  <a:pt x="4708477" y="68239"/>
                </a:cubicBezTo>
                <a:cubicBezTo>
                  <a:pt x="4740200" y="58722"/>
                  <a:pt x="4772167" y="50042"/>
                  <a:pt x="4804012" y="40943"/>
                </a:cubicBezTo>
                <a:cubicBezTo>
                  <a:pt x="4899546" y="45492"/>
                  <a:pt x="4998514" y="28803"/>
                  <a:pt x="5090614" y="54591"/>
                </a:cubicBezTo>
                <a:cubicBezTo>
                  <a:pt x="5122204" y="63436"/>
                  <a:pt x="5122009" y="113281"/>
                  <a:pt x="5145206" y="136478"/>
                </a:cubicBezTo>
                <a:cubicBezTo>
                  <a:pt x="5158854" y="150126"/>
                  <a:pt x="5173439" y="162896"/>
                  <a:pt x="5186149" y="177421"/>
                </a:cubicBezTo>
                <a:cubicBezTo>
                  <a:pt x="5205331" y="199343"/>
                  <a:pt x="5220142" y="225062"/>
                  <a:pt x="5240740" y="245660"/>
                </a:cubicBezTo>
                <a:cubicBezTo>
                  <a:pt x="5252338" y="257258"/>
                  <a:pt x="5269229" y="262280"/>
                  <a:pt x="5281683" y="272955"/>
                </a:cubicBezTo>
                <a:cubicBezTo>
                  <a:pt x="5301222" y="289703"/>
                  <a:pt x="5316179" y="311470"/>
                  <a:pt x="5336274" y="327546"/>
                </a:cubicBezTo>
                <a:cubicBezTo>
                  <a:pt x="5479718" y="442301"/>
                  <a:pt x="5365294" y="348879"/>
                  <a:pt x="5459104" y="395785"/>
                </a:cubicBezTo>
                <a:cubicBezTo>
                  <a:pt x="5473775" y="403121"/>
                  <a:pt x="5485376" y="415746"/>
                  <a:pt x="5500047" y="423081"/>
                </a:cubicBezTo>
                <a:cubicBezTo>
                  <a:pt x="5512914" y="429515"/>
                  <a:pt x="5527768" y="431061"/>
                  <a:pt x="5540991" y="436728"/>
                </a:cubicBezTo>
                <a:cubicBezTo>
                  <a:pt x="5559691" y="444742"/>
                  <a:pt x="5576882" y="456010"/>
                  <a:pt x="5595582" y="464024"/>
                </a:cubicBezTo>
                <a:cubicBezTo>
                  <a:pt x="5628310" y="478051"/>
                  <a:pt x="5656481" y="481423"/>
                  <a:pt x="5691116" y="491319"/>
                </a:cubicBezTo>
                <a:cubicBezTo>
                  <a:pt x="5728552" y="502015"/>
                  <a:pt x="5764253" y="517845"/>
                  <a:pt x="5800298" y="532263"/>
                </a:cubicBezTo>
                <a:cubicBezTo>
                  <a:pt x="5877635" y="527714"/>
                  <a:pt x="5957390" y="538331"/>
                  <a:pt x="6032310" y="518615"/>
                </a:cubicBezTo>
                <a:cubicBezTo>
                  <a:pt x="6051985" y="513437"/>
                  <a:pt x="6052462" y="483074"/>
                  <a:pt x="6059606" y="464024"/>
                </a:cubicBezTo>
                <a:cubicBezTo>
                  <a:pt x="6066192" y="446461"/>
                  <a:pt x="6068100" y="427468"/>
                  <a:pt x="6073253" y="409433"/>
                </a:cubicBezTo>
                <a:cubicBezTo>
                  <a:pt x="6077205" y="395601"/>
                  <a:pt x="6082352" y="382138"/>
                  <a:pt x="6086901" y="368490"/>
                </a:cubicBezTo>
                <a:cubicBezTo>
                  <a:pt x="6096779" y="309222"/>
                  <a:pt x="6101479" y="275597"/>
                  <a:pt x="6114197" y="218364"/>
                </a:cubicBezTo>
                <a:cubicBezTo>
                  <a:pt x="6118266" y="200054"/>
                  <a:pt x="6120630" y="181087"/>
                  <a:pt x="6127844" y="163773"/>
                </a:cubicBezTo>
                <a:cubicBezTo>
                  <a:pt x="6143494" y="126213"/>
                  <a:pt x="6146041" y="72788"/>
                  <a:pt x="6182435" y="54591"/>
                </a:cubicBezTo>
                <a:cubicBezTo>
                  <a:pt x="6200632" y="45492"/>
                  <a:pt x="6218136" y="34851"/>
                  <a:pt x="6237026" y="27295"/>
                </a:cubicBezTo>
                <a:cubicBezTo>
                  <a:pt x="6263740" y="16609"/>
                  <a:pt x="6318913" y="0"/>
                  <a:pt x="6318913" y="0"/>
                </a:cubicBezTo>
                <a:cubicBezTo>
                  <a:pt x="6382603" y="4549"/>
                  <a:pt x="6447102" y="2552"/>
                  <a:pt x="6509982" y="13648"/>
                </a:cubicBezTo>
                <a:cubicBezTo>
                  <a:pt x="6526135" y="16498"/>
                  <a:pt x="6539327" y="29345"/>
                  <a:pt x="6550925" y="40943"/>
                </a:cubicBezTo>
                <a:cubicBezTo>
                  <a:pt x="6567009" y="57027"/>
                  <a:pt x="6578647" y="77025"/>
                  <a:pt x="6591868" y="95534"/>
                </a:cubicBezTo>
                <a:cubicBezTo>
                  <a:pt x="6601402" y="108882"/>
                  <a:pt x="6607565" y="124879"/>
                  <a:pt x="6619164" y="136478"/>
                </a:cubicBezTo>
                <a:cubicBezTo>
                  <a:pt x="6630762" y="148076"/>
                  <a:pt x="6647506" y="153272"/>
                  <a:pt x="6660107" y="163773"/>
                </a:cubicBezTo>
                <a:cubicBezTo>
                  <a:pt x="6674934" y="176129"/>
                  <a:pt x="6688694" y="189889"/>
                  <a:pt x="6701050" y="204716"/>
                </a:cubicBezTo>
                <a:cubicBezTo>
                  <a:pt x="6711551" y="217317"/>
                  <a:pt x="6715824" y="235065"/>
                  <a:pt x="6728346" y="245660"/>
                </a:cubicBezTo>
                <a:cubicBezTo>
                  <a:pt x="6775582" y="285629"/>
                  <a:pt x="6819770" y="335275"/>
                  <a:pt x="6878471" y="354842"/>
                </a:cubicBezTo>
                <a:cubicBezTo>
                  <a:pt x="6923484" y="369847"/>
                  <a:pt x="6938704" y="374030"/>
                  <a:pt x="6987653" y="395785"/>
                </a:cubicBezTo>
                <a:cubicBezTo>
                  <a:pt x="7006244" y="404048"/>
                  <a:pt x="7023544" y="415067"/>
                  <a:pt x="7042244" y="423081"/>
                </a:cubicBezTo>
                <a:cubicBezTo>
                  <a:pt x="7055467" y="428748"/>
                  <a:pt x="7069965" y="431061"/>
                  <a:pt x="7083188" y="436728"/>
                </a:cubicBezTo>
                <a:cubicBezTo>
                  <a:pt x="7101888" y="444742"/>
                  <a:pt x="7119079" y="456010"/>
                  <a:pt x="7137779" y="464024"/>
                </a:cubicBezTo>
                <a:cubicBezTo>
                  <a:pt x="7151002" y="469691"/>
                  <a:pt x="7165499" y="472005"/>
                  <a:pt x="7178722" y="477672"/>
                </a:cubicBezTo>
                <a:cubicBezTo>
                  <a:pt x="7197422" y="485686"/>
                  <a:pt x="7214264" y="497824"/>
                  <a:pt x="7233313" y="504967"/>
                </a:cubicBezTo>
                <a:cubicBezTo>
                  <a:pt x="7272865" y="519799"/>
                  <a:pt x="7331194" y="523686"/>
                  <a:pt x="7369791" y="532263"/>
                </a:cubicBezTo>
                <a:cubicBezTo>
                  <a:pt x="7414529" y="542205"/>
                  <a:pt x="7415032" y="554986"/>
                  <a:pt x="7465325" y="559558"/>
                </a:cubicBezTo>
                <a:cubicBezTo>
                  <a:pt x="7497039" y="562441"/>
                  <a:pt x="7529014" y="559558"/>
                  <a:pt x="7560859" y="559558"/>
                </a:cubicBezTo>
              </a:path>
            </a:pathLst>
          </a:custGeom>
          <a:noFill/>
          <a:ln w="5724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13"/>
          <p:cNvCxnSpPr/>
          <p:nvPr/>
        </p:nvCxnSpPr>
        <p:spPr>
          <a:xfrm flipH="1" flipV="1">
            <a:off x="1642320" y="1428120"/>
            <a:ext cx="499320" cy="2500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TextBox 14"/>
          <p:cNvSpPr/>
          <p:nvPr/>
        </p:nvSpPr>
        <p:spPr>
          <a:xfrm>
            <a:off x="1507680" y="5500800"/>
            <a:ext cx="11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od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1063440" y="10000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od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2563560" y="10000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19"/>
          <p:cNvCxnSpPr/>
          <p:nvPr/>
        </p:nvCxnSpPr>
        <p:spPr>
          <a:xfrm>
            <a:off x="2000160" y="121392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Straight Arrow Connector 23"/>
          <p:cNvCxnSpPr/>
          <p:nvPr/>
        </p:nvCxnSpPr>
        <p:spPr>
          <a:xfrm>
            <a:off x="3642840" y="1213920"/>
            <a:ext cx="7866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9" name="TextBox 24"/>
          <p:cNvSpPr/>
          <p:nvPr/>
        </p:nvSpPr>
        <p:spPr>
          <a:xfrm>
            <a:off x="4556160" y="1285920"/>
            <a:ext cx="55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5"/>
          <p:cNvSpPr/>
          <p:nvPr/>
        </p:nvSpPr>
        <p:spPr>
          <a:xfrm>
            <a:off x="4429080" y="285840"/>
            <a:ext cx="30006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hyroglobu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7"/>
          <p:cNvSpPr/>
          <p:nvPr/>
        </p:nvSpPr>
        <p:spPr>
          <a:xfrm flipH="1">
            <a:off x="4833720" y="1066680"/>
            <a:ext cx="34920" cy="219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1"/>
          <p:cNvSpPr/>
          <p:nvPr/>
        </p:nvSpPr>
        <p:spPr>
          <a:xfrm>
            <a:off x="5182560" y="15717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3"/>
          <p:cNvSpPr/>
          <p:nvPr/>
        </p:nvSpPr>
        <p:spPr>
          <a:xfrm>
            <a:off x="5357160" y="1143000"/>
            <a:ext cx="7452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5"/>
          <p:cNvSpPr/>
          <p:nvPr/>
        </p:nvSpPr>
        <p:spPr>
          <a:xfrm>
            <a:off x="5988240" y="1571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6773760" y="164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42"/>
          <p:cNvSpPr/>
          <p:nvPr/>
        </p:nvSpPr>
        <p:spPr>
          <a:xfrm flipH="1" flipV="1">
            <a:off x="6715080" y="1142640"/>
            <a:ext cx="263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44"/>
          <p:cNvSpPr/>
          <p:nvPr/>
        </p:nvSpPr>
        <p:spPr>
          <a:xfrm flipH="1" flipV="1">
            <a:off x="6143760" y="1213920"/>
            <a:ext cx="48960" cy="357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46"/>
          <p:cNvSpPr/>
          <p:nvPr/>
        </p:nvSpPr>
        <p:spPr>
          <a:xfrm>
            <a:off x="1071720" y="2457360"/>
            <a:ext cx="1440" cy="25434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48"/>
          <p:cNvSpPr/>
          <p:nvPr/>
        </p:nvSpPr>
        <p:spPr>
          <a:xfrm flipH="1">
            <a:off x="8357760" y="2416320"/>
            <a:ext cx="49320" cy="2584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53"/>
          <p:cNvSpPr/>
          <p:nvPr/>
        </p:nvSpPr>
        <p:spPr>
          <a:xfrm flipH="1" flipV="1">
            <a:off x="428760" y="2428560"/>
            <a:ext cx="642960" cy="28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55"/>
          <p:cNvSpPr/>
          <p:nvPr/>
        </p:nvSpPr>
        <p:spPr>
          <a:xfrm flipV="1">
            <a:off x="8407440" y="2357280"/>
            <a:ext cx="522360" cy="590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7"/>
          <p:cNvSpPr/>
          <p:nvPr/>
        </p:nvSpPr>
        <p:spPr>
          <a:xfrm>
            <a:off x="8358120" y="5000760"/>
            <a:ext cx="5716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9"/>
          <p:cNvSpPr/>
          <p:nvPr/>
        </p:nvSpPr>
        <p:spPr>
          <a:xfrm flipH="1">
            <a:off x="428760" y="5000760"/>
            <a:ext cx="642960" cy="7128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61"/>
          <p:cNvCxnSpPr>
            <a:stCxn id="64" idx="2"/>
          </p:cNvCxnSpPr>
          <p:nvPr/>
        </p:nvCxnSpPr>
        <p:spPr>
          <a:xfrm>
            <a:off x="6191640" y="1941120"/>
            <a:ext cx="165960" cy="1561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TextBox 62"/>
          <p:cNvSpPr/>
          <p:nvPr/>
        </p:nvSpPr>
        <p:spPr>
          <a:xfrm>
            <a:off x="5429160" y="3571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4            T3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64"/>
          <p:cNvCxnSpPr/>
          <p:nvPr/>
        </p:nvCxnSpPr>
        <p:spPr>
          <a:xfrm flipH="1">
            <a:off x="6285960" y="4071960"/>
            <a:ext cx="1080" cy="1931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xtBox 65"/>
          <p:cNvSpPr/>
          <p:nvPr/>
        </p:nvSpPr>
        <p:spPr>
          <a:xfrm>
            <a:off x="276480" y="542916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6"/>
          <p:cNvSpPr/>
          <p:nvPr/>
        </p:nvSpPr>
        <p:spPr>
          <a:xfrm>
            <a:off x="4522680" y="350028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yroid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7"/>
          <p:cNvSpPr/>
          <p:nvPr/>
        </p:nvSpPr>
        <p:spPr>
          <a:xfrm>
            <a:off x="3145680" y="16430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l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8"/>
          <p:cNvSpPr/>
          <p:nvPr/>
        </p:nvSpPr>
        <p:spPr>
          <a:xfrm>
            <a:off x="5572080" y="59292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4      T3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69"/>
          <p:cNvSpPr/>
          <p:nvPr/>
        </p:nvSpPr>
        <p:spPr>
          <a:xfrm>
            <a:off x="1573920" y="214200"/>
            <a:ext cx="12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hyroid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eroxid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71"/>
          <p:cNvCxnSpPr>
            <a:stCxn id="81" idx="2"/>
          </p:cNvCxnSpPr>
          <p:nvPr/>
        </p:nvCxnSpPr>
        <p:spPr>
          <a:xfrm flipH="1">
            <a:off x="2142720" y="860040"/>
            <a:ext cx="3240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Straight Arrow Connector 75"/>
          <p:cNvCxnSpPr/>
          <p:nvPr/>
        </p:nvCxnSpPr>
        <p:spPr>
          <a:xfrm flipV="1">
            <a:off x="2070720" y="4428720"/>
            <a:ext cx="1447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TextBox 78"/>
          <p:cNvSpPr/>
          <p:nvPr/>
        </p:nvSpPr>
        <p:spPr>
          <a:xfrm>
            <a:off x="1859040" y="392904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ctive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9"/>
          <p:cNvSpPr/>
          <p:nvPr/>
        </p:nvSpPr>
        <p:spPr>
          <a:xfrm>
            <a:off x="3714840" y="5643720"/>
            <a:ext cx="1071360" cy="914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80"/>
          <p:cNvSpPr/>
          <p:nvPr/>
        </p:nvSpPr>
        <p:spPr>
          <a:xfrm>
            <a:off x="3929040" y="5786280"/>
            <a:ext cx="642960" cy="6429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82"/>
          <p:cNvSpPr/>
          <p:nvPr/>
        </p:nvSpPr>
        <p:spPr>
          <a:xfrm>
            <a:off x="4249800" y="5645160"/>
            <a:ext cx="144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84"/>
          <p:cNvSpPr/>
          <p:nvPr/>
        </p:nvSpPr>
        <p:spPr>
          <a:xfrm flipV="1">
            <a:off x="4477680" y="5776560"/>
            <a:ext cx="150840" cy="103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6"/>
          <p:cNvSpPr/>
          <p:nvPr/>
        </p:nvSpPr>
        <p:spPr>
          <a:xfrm flipV="1">
            <a:off x="4572000" y="6100920"/>
            <a:ext cx="214200" cy="7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90"/>
          <p:cNvSpPr/>
          <p:nvPr/>
        </p:nvSpPr>
        <p:spPr>
          <a:xfrm flipH="1">
            <a:off x="4249800" y="6429240"/>
            <a:ext cx="1440" cy="130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92"/>
          <p:cNvSpPr/>
          <p:nvPr/>
        </p:nvSpPr>
        <p:spPr>
          <a:xfrm flipH="1" flipV="1">
            <a:off x="3786120" y="5928840"/>
            <a:ext cx="21456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102"/>
          <p:cNvSpPr/>
          <p:nvPr/>
        </p:nvSpPr>
        <p:spPr>
          <a:xfrm>
            <a:off x="4477680" y="6335640"/>
            <a:ext cx="150840" cy="88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104"/>
          <p:cNvSpPr/>
          <p:nvPr/>
        </p:nvSpPr>
        <p:spPr>
          <a:xfrm flipH="1">
            <a:off x="3871800" y="6215040"/>
            <a:ext cx="128880" cy="209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Straight Arrow Connector 107"/>
          <p:cNvCxnSpPr/>
          <p:nvPr/>
        </p:nvCxnSpPr>
        <p:spPr>
          <a:xfrm flipV="1">
            <a:off x="4429080" y="3928320"/>
            <a:ext cx="286560" cy="1786680"/>
          </a:xfrm>
          <a:prstGeom prst="straightConnector1">
            <a:avLst/>
          </a:prstGeom>
          <a:ln w="9360">
            <a:solidFill>
              <a:srgbClr val="ff0000"/>
            </a:solidFill>
            <a:prstDash val="lgDash"/>
            <a:miter/>
            <a:tailEnd len="med" type="arrow" w="med"/>
          </a:ln>
        </p:spPr>
      </p:cxnSp>
      <p:cxnSp>
        <p:nvCxnSpPr>
          <p:cNvPr id="95" name="Straight Arrow Connector 109"/>
          <p:cNvCxnSpPr>
            <a:endCxn id="79" idx="2"/>
          </p:cNvCxnSpPr>
          <p:nvPr/>
        </p:nvCxnSpPr>
        <p:spPr>
          <a:xfrm flipH="1" flipV="1">
            <a:off x="3565080" y="2012400"/>
            <a:ext cx="650160" cy="4059720"/>
          </a:xfrm>
          <a:prstGeom prst="straightConnector1">
            <a:avLst/>
          </a:prstGeom>
          <a:ln w="9360">
            <a:solidFill>
              <a:srgbClr val="ff0000"/>
            </a:solidFill>
            <a:prstDash val="dashDot"/>
            <a:miter/>
            <a:tailEnd len="med" type="arrow" w="med"/>
          </a:ln>
        </p:spPr>
      </p:cxnSp>
      <p:sp>
        <p:nvSpPr>
          <p:cNvPr id="96" name="TextBox 112"/>
          <p:cNvSpPr/>
          <p:nvPr/>
        </p:nvSpPr>
        <p:spPr>
          <a:xfrm>
            <a:off x="2716920" y="5857920"/>
            <a:ext cx="9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yroid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oll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116"/>
          <p:cNvCxnSpPr/>
          <p:nvPr/>
        </p:nvCxnSpPr>
        <p:spPr>
          <a:xfrm>
            <a:off x="7157880" y="2012760"/>
            <a:ext cx="23040" cy="141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21"/>
          <p:cNvCxnSpPr/>
          <p:nvPr/>
        </p:nvCxnSpPr>
        <p:spPr>
          <a:xfrm flipH="1">
            <a:off x="7189560" y="4071960"/>
            <a:ext cx="2160" cy="1859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9" name="TextBox 56"/>
          <p:cNvSpPr/>
          <p:nvPr/>
        </p:nvSpPr>
        <p:spPr>
          <a:xfrm>
            <a:off x="30960" y="2714760"/>
            <a:ext cx="2001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Bi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&amp;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Secretion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of Thyroid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What are thyroid hormones in the body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1- </a:t>
            </a: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Thyroxine (T4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produced exclusively by the thyroid gla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2- T3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15% is produced in the thyroid glan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85% is produced from T4 in the liver, kidney &amp; muscles by deiodination of outer ring (as 80% of T4 is converted to T3 in extrathyroid tissu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T3 is the biologically </a:t>
            </a:r>
            <a:r>
              <a:rPr b="0" lang="en-US" sz="1700" spc="-1" strike="noStrike" u="sng">
                <a:solidFill>
                  <a:srgbClr val="002060"/>
                </a:solidFill>
                <a:uFillTx/>
                <a:latin typeface="Cambria"/>
              </a:rPr>
              <a:t>active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form of thyroid hormones (as it is has 10 times more affinity more than T4 for thyroid receptor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3- Reverse T3 (rT3)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Produced outside thyroid from T4 by deiodination of inner ring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rT3 is biologically </a:t>
            </a:r>
            <a:r>
              <a:rPr b="0" lang="en-US" sz="1700" spc="-1" strike="noStrike" u="sng">
                <a:solidFill>
                  <a:srgbClr val="002060"/>
                </a:solidFill>
                <a:uFillTx/>
                <a:latin typeface="Cambria"/>
              </a:rPr>
              <a:t>inactive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1"/>
          <p:cNvPicPr/>
          <p:nvPr/>
        </p:nvPicPr>
        <p:blipFill>
          <a:blip r:embed="rId1"/>
          <a:srcRect l="13747" t="26479" r="19772" b="35757"/>
          <a:stretch/>
        </p:blipFill>
        <p:spPr>
          <a:xfrm>
            <a:off x="990720" y="380880"/>
            <a:ext cx="7315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Transport of thyroid hormones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Thyroid hormones are transported in blood in two 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1-</a:t>
            </a: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Bound forms</a:t>
            </a: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Thyroid hormones are transported in plasma bound to plasma protein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Thyroid Binding Globulin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(TBG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 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binds  70% of plasma T4 &amp; 80% of plasma T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     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-  Others: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Pre-albumin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&amp; 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Albumin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2- </a:t>
            </a:r>
            <a:r>
              <a:rPr b="1" lang="en-US" sz="1700" spc="-1" strike="noStrike">
                <a:solidFill>
                  <a:srgbClr val="ff0000"/>
                </a:solidFill>
                <a:latin typeface="Cambria"/>
              </a:rPr>
              <a:t>Free form</a:t>
            </a:r>
            <a:r>
              <a:rPr b="0" lang="en-US" sz="17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0.05% of plasma T4 &amp; 0.02% of plasma T3 are free (</a:t>
            </a:r>
            <a:r>
              <a:rPr b="0" lang="en-US" sz="1700" spc="-1" strike="noStrike" u="sng">
                <a:solidFill>
                  <a:srgbClr val="002060"/>
                </a:solidFill>
                <a:uFillTx/>
                <a:latin typeface="Cambria"/>
              </a:rPr>
              <a:t>not</a:t>
            </a:r>
            <a:r>
              <a:rPr b="0" lang="en-US" sz="1700" spc="-1" strike="noStrike">
                <a:solidFill>
                  <a:srgbClr val="002060"/>
                </a:solidFill>
                <a:latin typeface="Cambria"/>
              </a:rPr>
              <a:t> bound to plasma proteins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Only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mbria"/>
              </a:rPr>
              <a:t>free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 fraction can cross the cell membrane &amp; affect intracellular metabo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0T07:57:09Z</dcterms:created>
  <dc:creator>ALWALY</dc:creator>
  <dc:description/>
  <dc:language>en-US</dc:language>
  <cp:lastModifiedBy>Jamal Younis</cp:lastModifiedBy>
  <dcterms:modified xsi:type="dcterms:W3CDTF">2015-08-31T05:42:09Z</dcterms:modified>
  <cp:revision>173</cp:revision>
  <dc:subject/>
  <dc:title>Slide 1</dc:title>
</cp:coreProperties>
</file>